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428-5C2E-4BA4-B03D-C68C5557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B7F-6361-47A5-9C5F-3B89BD1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2B3-6EFC-4603-82AF-9580BB51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0AA-5E99-426B-93AF-90D131FC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2873-3B8B-4F2D-8F56-DCCF1F85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D78F-C88F-4966-B461-527A2764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AF48-0499-4DB9-BE93-2FD69929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EC4B-DD77-4CF2-A6AE-76B63F12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8ED9-71D2-446B-83E3-6D456BBF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9B5-504B-4E3D-A741-604899A2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6BF1-4846-4DF4-95E8-48927781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9A7-3D28-4DD1-A0F2-47632935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49A7-E1CA-45D9-AF9A-39A56D8F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A030-D819-4234-89BD-ECCF146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5B89-5A57-4B63-A93C-9999C154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0DC9-FF3D-4131-8EC9-34A964D7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570D-8B42-49B5-ADC3-872C2F9B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EC1-05AA-46C8-8D9C-E0B410D7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393-3F17-40B0-BFA5-53D7607F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004-189D-438F-A119-DC5BB07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506-2070-4157-8862-E2CADE59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549-19F4-439E-9F5A-89172F90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8BA-7A44-4B51-ADF9-6169CF21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31B-E88E-4682-9D95-473EE49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44D-ED69-4DC1-B076-D1DDD691B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6803-CFE4-455E-9513-D86760920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لربّ فإنّهُ صالحٌ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إله الالهة وربّ الأرباب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صانع المعجزات العظ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حده والسماوات.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اسط الأرض على المياه ولصانع النيرات العظيمة وحده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نع الشمس لتسود في النهار والقمر والكواكب لتسود في الليل.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72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72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ذي شقّ البحر الأحمر الى شطرين واقتاد شعبه في وسطه وفي البرية.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 الربّ ذكرنا في مذلّتن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لَّصنا من أعدائنا.</a:t>
            </a:r>
            <a:endParaRPr b="1" lang="en-US" sz="7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7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ذي يرزق كلّ جسد طعامه</a:t>
            </a:r>
            <a:r>
              <a:rPr b="1" lang="ar-SA" sz="87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br>
              <a:rPr sz="8700"/>
            </a:br>
            <a:r>
              <a:rPr b="1" lang="ar-SA" sz="87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إله السماء سبّحوه ومجّدوه إلى الأبد.</a:t>
            </a:r>
            <a:endParaRPr b="1" lang="en-US" sz="87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Charbel Azar</cp:lastModifiedBy>
  <dcterms:modified xsi:type="dcterms:W3CDTF">2003-01-25T11:58:13Z</dcterms:modified>
  <cp:revision>1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